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ct" ContentType="image/x-pict"/>
  <Override PartName="/ppt/media/image6.pct" ContentType="image/x-pict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A4FC1-C4A7-4955-8EDB-732C12952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602D4-D8AA-4B46-AF41-0DAB4FF85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0CBE0-754F-46A1-906F-86E189649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CAEC6-ACD0-4055-97A4-D086E04C6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 LIKE THIS SLIDE OR THE NEXT ONE OR BOT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A5A2B-7E8C-4094-A039-C6CABCD6B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07F26-1D97-491B-9A83-F2BF00224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93849-200D-49DC-B18B-6C591FEED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26B7D-1189-4186-A53B-FEEEEC60D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anc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13199-6AE1-412F-99F8-839FCFE8D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26F4F-DAA0-4E9D-AC4C-199419BAB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92EB4-9F38-4D6C-9BC9-2E5FC9292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15C36-646D-4516-8F85-4CC774D48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9B71D-8A36-41AF-8656-91F702992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1AB25-AD70-464B-B79E-E8801431D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F86E6-CE1C-43DD-A189-CD5A45075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C5080-DA4D-487F-8A51-471A579E5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59804-5B91-4B04-BC3C-6C16B05B9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3DFEF-18E6-44CA-AB31-A744C0D28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C6573-A400-4C53-B379-2074CD084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9EDD1-3255-412F-A42C-65A860C74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ould be a piece on the wiki they can downlo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9B7DB-24FF-43BD-9972-8B75F9518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bat is about 83 cm  and normal scissors is about 20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A25D8-D7C1-471C-B29B-93673D4DD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3762-542F-4744-84DE-C6C7CEA02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A47A-92E8-412E-BBDB-CD420F2B7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0ED2-3D17-4E01-A0CB-09337B5B5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CC07-B9DD-4752-A599-F620BEBB7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0D4B-8793-4F79-9CC7-A125E3A25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AA41-BD16-473E-8C82-5092A3CC7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4F96-260F-4A4A-8DFE-F2BF91963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95C5-366F-46E1-8E88-4C7C8947B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F92B-7E5A-4382-A8C4-CD8A31F9F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193D-F2EC-45DD-BFD8-8C933257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6592-AB1C-433B-896B-D9FC9328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3872-A5CF-48CC-8553-E2C89FB1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098C5-4B9A-44E4-8DDC-8D08BB434B8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5" name="Picture 12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Untitled-1"/>
          <p:cNvPicPr/>
          <p:nvPr/>
        </p:nvPicPr>
        <p:blipFill>
          <a:blip r:embed="rId3"/>
          <a:stretch/>
        </p:blipFill>
        <p:spPr>
          <a:xfrm>
            <a:off x="380880" y="380880"/>
            <a:ext cx="6853320" cy="1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ct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1763640" y="838080"/>
            <a:ext cx="5545080" cy="45468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1"/>
          <p:cNvSpPr/>
          <p:nvPr/>
        </p:nvSpPr>
        <p:spPr>
          <a:xfrm>
            <a:off x="431640" y="5337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Book Antiqua"/>
              </a:rPr>
              <a:t>Plenary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5335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need one group to talk about their think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rest of you think about what you’d say in respon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n I will respond and talk about my rationa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d469b"/>
                </a:solidFill>
                <a:latin typeface="Arial"/>
              </a:rPr>
              <a:t>What kind of feedback?</a:t>
            </a:r>
            <a:endParaRPr b="0" lang="en-US" sz="60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d469b"/>
                </a:solidFill>
                <a:latin typeface="Arial"/>
              </a:rPr>
              <a:t>Spinning colours</a:t>
            </a:r>
            <a:endParaRPr b="0" lang="en-US" sz="6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with a part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spinner where you are likely to spin 3 more reds than blues in 10 sp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more reds than blues are you likely to spin in 15 spi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5335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need one group to talk about their think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rest of you think about what you’d say in respon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n I’ll actually do it and talk about my rationa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d469b"/>
                </a:solidFill>
                <a:latin typeface="Arial"/>
              </a:rPr>
              <a:t>What kind of feedback?</a:t>
            </a:r>
            <a:endParaRPr b="0" lang="en-US" sz="60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d469b"/>
                </a:solidFill>
                <a:latin typeface="Arial"/>
              </a:rPr>
              <a:t>Mixing colours</a:t>
            </a:r>
            <a:endParaRPr b="0" lang="en-US" sz="6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e mixed 2 containers of yellow paint with 3 same-sized containers of blue paint to make gr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anne mixed 2.5 containers of yellow paint with 3.5 same-sized containers of blue pa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 paints the same sha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why or why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d469b"/>
                </a:solidFill>
                <a:latin typeface="Arial"/>
              </a:rPr>
              <a:t>Mixing colours</a:t>
            </a:r>
            <a:endParaRPr b="0" lang="en-US" sz="6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e mixed 2 containers of yellow paint with 3 same-sized containers of blue paint to make gr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anne also mixed yellow and blue paint. But her paint wa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ust a littl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blue than Jane’s. What numbers of same–sized containers could she have mix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5335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portional reasoning involves the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liberate use of multiplicative relationship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compare quantities and to predict the value of one quantity based on the values of ano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d469b"/>
                </a:solidFill>
                <a:latin typeface="Arial"/>
              </a:rPr>
              <a:t>Proportional reasoning</a:t>
            </a:r>
            <a:endParaRPr b="0" lang="en-US" sz="60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5335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did the problems you tried relate to proportional reason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lk to a partn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’ll share a few idea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d469b"/>
                </a:solidFill>
                <a:latin typeface="Arial"/>
              </a:rPr>
              <a:t>Proportional reasoning</a:t>
            </a:r>
            <a:endParaRPr b="0" lang="en-US" sz="60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5335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ou think of a number as a group of units of ano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example, if you think of 15 as three 5s, you are thinking proportional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you think of 15 as 8 + 7, you are NOT thinking proportionally, even though there is nothing wro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d469b"/>
                </a:solidFill>
                <a:latin typeface="Arial"/>
              </a:rPr>
              <a:t>Another “definition” of pr</a:t>
            </a:r>
            <a:endParaRPr b="0" lang="en-US" sz="54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5335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variables p and q are related proportionally if the ratio of p to q doesn’t change when values of p and q change by the same fact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d469b"/>
                </a:solidFill>
                <a:latin typeface="Arial"/>
              </a:rPr>
              <a:t>Or someone might say…..</a:t>
            </a:r>
            <a:endParaRPr b="0" lang="en-US" sz="54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04920" y="28195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lunch is Papa Bear’s.  Draw a sandwich that would be right for baby be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d469b"/>
                </a:solidFill>
                <a:latin typeface="Arial"/>
              </a:rPr>
              <a:t>Example of proportional reasoning</a:t>
            </a:r>
            <a:endParaRPr b="0" lang="en-US" sz="60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88" name="Picture 6" descr="Screen shot 2011-06-20 at 11.54.15 AM.png"/>
          <p:cNvPicPr/>
          <p:nvPr/>
        </p:nvPicPr>
        <p:blipFill>
          <a:blip r:embed="rId1"/>
          <a:stretch/>
        </p:blipFill>
        <p:spPr>
          <a:xfrm>
            <a:off x="6858000" y="1371600"/>
            <a:ext cx="1797120" cy="1380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Screen shot 2011-06-20 at 11.55.41 AM.png"/>
          <p:cNvPicPr/>
          <p:nvPr/>
        </p:nvPicPr>
        <p:blipFill>
          <a:blip r:embed="rId2"/>
          <a:stretch/>
        </p:blipFill>
        <p:spPr>
          <a:xfrm>
            <a:off x="4572000" y="4267080"/>
            <a:ext cx="2749680" cy="20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5335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timate these percents as they apply to yo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ercent of your daily calorie intake that is sn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ercent of your life that you’ve been a teacher/consultant/et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ercent of your staff that is ma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d469b"/>
                </a:solidFill>
                <a:latin typeface="Arial"/>
              </a:rPr>
              <a:t>Getting acquainted</a:t>
            </a:r>
            <a:endParaRPr b="0" lang="en-US" sz="60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57200" y="28195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does the picture show you that     is less       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o o o x              o o o o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o o o x              o o o o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d469b"/>
                </a:solidFill>
                <a:latin typeface="Arial"/>
              </a:rPr>
              <a:t>Example of proportional reasoning</a:t>
            </a:r>
            <a:endParaRPr b="0" lang="en-US" sz="6000" spc="-1" strike="noStrike">
              <a:solidFill>
                <a:srgbClr val="0d469b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8305920" y="2819520"/>
          <a:ext cx="29196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05920" y="2819520"/>
                    <a:ext cx="2919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2362320" y="3276720"/>
          <a:ext cx="57132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3276720"/>
                    <a:ext cx="5713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7200" y="29718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you decide that an increase from 1 to 5 is more significant than an increase from 96 to 106 because the percent increase is much more substantial, you are using proportional reason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d469b"/>
                </a:solidFill>
                <a:latin typeface="Arial"/>
              </a:rPr>
              <a:t>Example of proportional reasoning</a:t>
            </a:r>
            <a:endParaRPr b="0" lang="en-US" sz="60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24382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 when solving the problem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If you get a penny every time someone in Ontario sneezes, how long would it take to become a millionai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ou take a relatively small sample and multiply to generalize, you are using p.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d469b"/>
                </a:solidFill>
                <a:latin typeface="Arial"/>
              </a:rPr>
              <a:t>Example of proportional reasoning</a:t>
            </a:r>
            <a:endParaRPr b="0" lang="en-US" sz="60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2666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a student figures out the height of the tree, the student is using proportional reason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d469b"/>
                </a:solidFill>
                <a:latin typeface="Arial"/>
              </a:rPr>
              <a:t>Example of proportional reasoning</a:t>
            </a:r>
            <a:endParaRPr b="0" lang="en-US" sz="60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02" name="Picture 4" descr="Screen shot 2011-06-15 at 9.27.17 PM.png"/>
          <p:cNvPicPr/>
          <p:nvPr/>
        </p:nvPicPr>
        <p:blipFill>
          <a:blip r:embed="rId1"/>
          <a:stretch/>
        </p:blipFill>
        <p:spPr>
          <a:xfrm>
            <a:off x="5664240" y="3886200"/>
            <a:ext cx="309888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25909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e your own interesting exampl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 proportional reason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y to use a different context than you just saw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d469b"/>
                </a:solidFill>
                <a:latin typeface="Arial"/>
              </a:rPr>
              <a:t>What is proportional reasoning?</a:t>
            </a:r>
            <a:endParaRPr b="0" lang="en-US" sz="60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335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rite the percents in random ord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k your neighbour to guess which percent is whic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d469b"/>
                </a:solidFill>
                <a:latin typeface="Arial"/>
              </a:rPr>
              <a:t>Getting acquainted</a:t>
            </a:r>
            <a:endParaRPr b="0" lang="en-US" sz="60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5335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timate these percents for yo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ercent of your daily calorie intake that is sn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ercent of your life that you’ve been a teacher/consultant/et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ercent of your staff that is ma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d469b"/>
                </a:solidFill>
                <a:latin typeface="Arial"/>
              </a:rPr>
              <a:t>Getting acquainted</a:t>
            </a:r>
            <a:endParaRPr b="0" lang="en-US" sz="60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5335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cus on the big ideas in algebraic thinking and proportional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cus on using open questions and parallel tasks for DI and richer mathematics classroo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d469b"/>
                </a:solidFill>
                <a:latin typeface="Arial"/>
              </a:rPr>
              <a:t>Past two camps</a:t>
            </a:r>
            <a:endParaRPr b="0" lang="en-US" sz="60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5335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want to build on what we’ve dealt with befo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will continue to talk about the big ideas in both of those topics, but we will focus more on how to respond to student thinking in these area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d469b"/>
                </a:solidFill>
                <a:latin typeface="Arial"/>
              </a:rPr>
              <a:t>And now</a:t>
            </a:r>
            <a:endParaRPr b="0" lang="en-US" sz="60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d469b"/>
                </a:solidFill>
                <a:latin typeface="Arial"/>
              </a:rPr>
              <a:t>We will share</a:t>
            </a:r>
            <a:endParaRPr b="0" lang="en-US" sz="6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ig ideas related to proportional reasoning we have been focusing on as a download on the wik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d469b"/>
                </a:solidFill>
                <a:latin typeface="Arial"/>
              </a:rPr>
              <a:t>Let’s get to it</a:t>
            </a:r>
            <a:endParaRPr b="0" lang="en-US" sz="6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try some probl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5335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giant baseball bat is about 175 cm lo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giant pair of scissors is about 90 cm lo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nk of at least three different ways to compare their length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way do you think is bett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d469b"/>
                </a:solidFill>
                <a:latin typeface="Arial"/>
              </a:rPr>
              <a:t>How long are they?</a:t>
            </a:r>
            <a:endParaRPr b="0" lang="en-US" sz="60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0T15:30:18Z</dcterms:created>
  <dc:creator>PSteele</dc:creator>
  <dc:description/>
  <dc:language>en-US</dc:language>
  <cp:lastModifiedBy>Marian Small</cp:lastModifiedBy>
  <dcterms:modified xsi:type="dcterms:W3CDTF">2011-06-20T16:00:27Z</dcterms:modified>
  <cp:revision>263</cp:revision>
  <dc:subject/>
  <dc:title>Slide 1</dc:title>
</cp:coreProperties>
</file>